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7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6.wmf" ContentType="image/x-wmf"/>
  <Override PartName="/ppt/media/image5.jpeg" ContentType="image/jpeg"/>
  <Override PartName="/ppt/media/image2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BC5A-B958-431A-BE21-F2412C9C7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4086-20EA-4B42-90C6-76488D1D1A3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1B9A-EADF-4089-A9CF-E75BA93AD96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AFCE-4B9C-4C04-B744-7985143D7DF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2B45-65E8-45AA-A433-ED2F9251D4A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0ACF-2DA7-4945-94D3-619BF62914A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C21D-66E1-4533-A901-37B0C33B464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D156-C58B-42A2-A208-6E24D8BDDEB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FD24-DE75-4CB7-A3F2-0BDAB9B6B08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57AE-3202-4A85-BCDF-5359943E914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534B-BDDB-40E8-92E8-924A9ECB653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39A8-2AAB-4371-8AAC-66529191B8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7D21-59D1-46BC-A87E-C52CAA3BE16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3820-BDF9-4456-B6DA-C7CD415D92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4C25-3E68-45B0-8C44-C4E5A7442A0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76FA-CF2D-4AA4-A2E6-DD4EC186430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FE87-7C7B-4677-900F-922D248D3A4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2FEE-0D0A-40EC-A813-39B60D66987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6DDE-C029-42B3-8406-1E847C96342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3F8C-9631-4D61-95E1-EF84D22703E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5806-8986-4D6E-A80E-74D6CC3E426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C3AA-75B7-4715-A60B-392FFB03362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0193-4250-4B2B-891C-6357E37A179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782F-DD25-416C-9CFC-4D2B5075A9E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F6C4-B465-49EA-9DFE-646EC4B1E4A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C780-91A8-43AA-97D6-B4D2F1E60A7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8B81-C773-48E3-B733-5BBFE79737B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9BE9-6FDC-49AA-82DE-72B0D694997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03BE-E8F4-4774-A5E0-350A501141A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5A9F-88AB-4897-B4EB-5E83C441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2951-CC75-4BB0-811F-512FBC9B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92B-6EF5-4C95-8541-C67CD1E5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58D-57B7-4EFE-A166-BD9E86E2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D368-8BEB-43B7-A056-D3D129F6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E611-8C3E-4792-AC5E-8E5EF345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3374-2453-4F30-A8C7-B8CC69C0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1C17-667B-4241-ADC0-F7272FA6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5109-5B53-4E09-B376-BB95B270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A639-7EB6-456B-8EAE-4ED38546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445F-04D9-461B-8184-6333B7DF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B550-B91D-4C17-979D-12B843DF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0203-5A42-4FA6-8ED1-CA58224C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7B41-2BE6-4EDC-A8FE-D0A4DBD5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0D24-6DAB-4F4E-8616-0BA2ACF9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47A5-51FE-4D42-B4E4-9BA1358D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06D0-EFAC-4A5E-B5F7-4FE7831C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CA8B-A5F9-4BAC-8B26-CECA7742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551-D730-4B41-80CB-D8057F9C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7FC-5F73-442C-A86C-9E687C0F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888-063F-4289-8B54-5F0E3579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2D5-6F43-40A2-9DBF-CB736CA1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E4B5-1056-48C3-9F45-8011081A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AB8-7842-400C-9722-4F202BCC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F25A-BDBB-4AED-B162-73BFC6F167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Picture 20" descr="logo-a"/>
          <p:cNvPicPr/>
          <p:nvPr/>
        </p:nvPicPr>
        <p:blipFill>
          <a:blip r:embed="rId2"/>
          <a:stretch/>
        </p:blipFill>
        <p:spPr>
          <a:xfrm>
            <a:off x="8001000" y="5791320"/>
            <a:ext cx="857160" cy="8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9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69" name="Picture 21" descr="logo-a"/>
          <p:cNvPicPr/>
          <p:nvPr/>
        </p:nvPicPr>
        <p:blipFill>
          <a:blip r:embed="rId2"/>
          <a:stretch/>
        </p:blipFill>
        <p:spPr>
          <a:xfrm>
            <a:off x="8001000" y="5791320"/>
            <a:ext cx="857160" cy="809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703B-13AA-4748-A996-577D194EA3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asic Botany for Master Garden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ff Schala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ent, Agriculture &amp; Natural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versity of Arizona Cooperative Extension, Yavapai Cou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6" descr="logo-a"/>
          <p:cNvPicPr/>
          <p:nvPr/>
        </p:nvPicPr>
        <p:blipFill>
          <a:blip r:embed="rId1"/>
          <a:stretch/>
        </p:blipFill>
        <p:spPr>
          <a:xfrm>
            <a:off x="8001000" y="5791320"/>
            <a:ext cx="857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eatures and Terms Describing Ste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o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n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ccul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l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hiz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l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3" dur="1" fill="hold"/>
                                  <p:tgtEl>
                                    <p:spTgt spid="1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a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nation/Sha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all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nn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lm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ran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ern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pos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rl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ss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4572000" y="609480"/>
          <a:ext cx="4114800" cy="50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609480"/>
                    <a:ext cx="411480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7" dur="1" fill="hold"/>
                                  <p:tgtEl>
                                    <p:spTgt spid="15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af Anatom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8" name="Object 7"/>
          <p:cNvGraphicFramePr/>
          <p:nvPr/>
        </p:nvGraphicFramePr>
        <p:xfrm>
          <a:off x="762120" y="1066680"/>
          <a:ext cx="7181640" cy="55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18164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low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243000" y="1204920"/>
          <a:ext cx="865800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00" y="1204920"/>
                    <a:ext cx="86580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"/>
          <p:cNvSpPr/>
          <p:nvPr/>
        </p:nvSpPr>
        <p:spPr>
          <a:xfrm>
            <a:off x="1600200" y="59436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 plants reprodu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eed Anatom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5" name="Picture 5" descr="dicotseed"/>
          <p:cNvPicPr/>
          <p:nvPr/>
        </p:nvPicPr>
        <p:blipFill>
          <a:blip r:embed="rId1"/>
          <a:stretch/>
        </p:blipFill>
        <p:spPr>
          <a:xfrm>
            <a:off x="457200" y="1905120"/>
            <a:ext cx="838188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 rot="16200000">
            <a:off x="-2217240" y="2674800"/>
            <a:ext cx="58672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eed Germin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7" name="Picture 5" descr="sprout"/>
          <p:cNvPicPr/>
          <p:nvPr/>
        </p:nvPicPr>
        <p:blipFill>
          <a:blip r:embed="rId1"/>
          <a:stretch/>
        </p:blipFill>
        <p:spPr>
          <a:xfrm>
            <a:off x="1371600" y="-33480"/>
            <a:ext cx="777240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oo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ch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orb nutrients a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 stor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 h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teral roo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 c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ary growth in woody p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0" name="Object 4"/>
          <p:cNvGraphicFramePr/>
          <p:nvPr/>
        </p:nvGraphicFramePr>
        <p:xfrm>
          <a:off x="5029200" y="0"/>
          <a:ext cx="26766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0"/>
                    <a:ext cx="2676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oot Structur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457200" y="871560"/>
          <a:ext cx="8229600" cy="54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71560"/>
                    <a:ext cx="822960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6"/>
          <p:cNvSpPr/>
          <p:nvPr/>
        </p:nvSpPr>
        <p:spPr>
          <a:xfrm>
            <a:off x="1143000" y="6338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p r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334120" y="6338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brous roo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hotosynthe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ource of all food and oxygen on the pla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ves an input of light energy from the s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verts light energy into chemical energy (carbohydrates, then proteins, fats, and nucleic acid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quires light, carbon dioxide (CO2), and water (H2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ts are sugar (C6H12O6), and oxygen (O2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curs in plant structures called chloroplasts that are rich with the pigment chlorophy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emical Reaction during Photosynthe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228600" y="1981080"/>
          <a:ext cx="86677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86677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6"/>
          <p:cNvGraphicFramePr/>
          <p:nvPr/>
        </p:nvGraphicFramePr>
        <p:xfrm>
          <a:off x="2590920" y="3276720"/>
          <a:ext cx="52005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276720"/>
                    <a:ext cx="52005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8"/>
          <p:cNvSpPr/>
          <p:nvPr/>
        </p:nvSpPr>
        <p:spPr>
          <a:xfrm>
            <a:off x="762120" y="510552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o plants do this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seems like a lot of wo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lant Functions: the Big Pictu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ture and store enough energy to survive and reproduce (earn a liv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compete neighb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 to a variety of environ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 to herbiv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 to changing environ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1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Where does photosynthesis occur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86" name="Object 5"/>
          <p:cNvGraphicFramePr/>
          <p:nvPr/>
        </p:nvGraphicFramePr>
        <p:xfrm>
          <a:off x="4495680" y="1600200"/>
          <a:ext cx="44769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4769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6"/>
          <p:cNvSpPr/>
          <p:nvPr/>
        </p:nvSpPr>
        <p:spPr>
          <a:xfrm>
            <a:off x="1143000" y="55627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143000" y="3809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loropla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143000" y="2133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lorophy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2514600" y="5867280"/>
            <a:ext cx="3048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3200400" y="4114800"/>
            <a:ext cx="1905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3124080" y="2438280"/>
            <a:ext cx="1905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nother look at photosynthe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5" name="Object 5"/>
          <p:cNvGraphicFramePr/>
          <p:nvPr/>
        </p:nvGraphicFramePr>
        <p:xfrm>
          <a:off x="838080" y="1828800"/>
          <a:ext cx="697248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697248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ght and Wavelengt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838080" y="1546200"/>
          <a:ext cx="7315200" cy="53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46200"/>
                    <a:ext cx="731520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erobic Respir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762120" y="51055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re a connection between photosynthesis and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2" name="Object 6"/>
          <p:cNvGraphicFramePr/>
          <p:nvPr/>
        </p:nvGraphicFramePr>
        <p:xfrm>
          <a:off x="219240" y="1828800"/>
          <a:ext cx="89247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828800"/>
                    <a:ext cx="89247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7"/>
          <p:cNvGraphicFramePr/>
          <p:nvPr/>
        </p:nvGraphicFramePr>
        <p:xfrm>
          <a:off x="609480" y="3505320"/>
          <a:ext cx="6553440" cy="51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505320"/>
                    <a:ext cx="65534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ne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2514600" y="20574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otosyn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8" name="Object 6"/>
          <p:cNvGraphicFramePr/>
          <p:nvPr/>
        </p:nvGraphicFramePr>
        <p:xfrm>
          <a:off x="1905120" y="2895480"/>
          <a:ext cx="52005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95480"/>
                    <a:ext cx="52005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7"/>
          <p:cNvGraphicFramePr/>
          <p:nvPr/>
        </p:nvGraphicFramePr>
        <p:xfrm>
          <a:off x="1295280" y="4343400"/>
          <a:ext cx="655344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343400"/>
                    <a:ext cx="65534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8"/>
          <p:cNvSpPr/>
          <p:nvPr/>
        </p:nvSpPr>
        <p:spPr>
          <a:xfrm>
            <a:off x="2438280" y="51814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Freeform 24"/>
          <p:cNvSpPr/>
          <p:nvPr/>
        </p:nvSpPr>
        <p:spPr>
          <a:xfrm>
            <a:off x="1981080" y="3855960"/>
            <a:ext cx="3665520" cy="56376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Freeform 27"/>
          <p:cNvSpPr/>
          <p:nvPr/>
        </p:nvSpPr>
        <p:spPr>
          <a:xfrm>
            <a:off x="1981080" y="3749760"/>
            <a:ext cx="2468520" cy="6238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Freeform 28"/>
          <p:cNvSpPr/>
          <p:nvPr/>
        </p:nvSpPr>
        <p:spPr>
          <a:xfrm>
            <a:off x="3673440" y="3687840"/>
            <a:ext cx="1828800" cy="70164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Freeform 32"/>
          <p:cNvSpPr/>
          <p:nvPr/>
        </p:nvSpPr>
        <p:spPr>
          <a:xfrm>
            <a:off x="3336840" y="3746520"/>
            <a:ext cx="4800600" cy="143496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36"/>
          <p:cNvSpPr/>
          <p:nvPr/>
        </p:nvSpPr>
        <p:spPr>
          <a:xfrm rot="17666400">
            <a:off x="6574320" y="3005640"/>
            <a:ext cx="2743200" cy="404640"/>
          </a:xfrm>
          <a:prstGeom prst="rightArrow">
            <a:avLst>
              <a:gd name="adj1" fmla="val 50000"/>
              <a:gd name="adj2" fmla="val 16948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37"/>
          <p:cNvSpPr/>
          <p:nvPr/>
        </p:nvSpPr>
        <p:spPr>
          <a:xfrm rot="2497800">
            <a:off x="-690120" y="1399680"/>
            <a:ext cx="5046480" cy="381240"/>
          </a:xfrm>
          <a:prstGeom prst="rightArrow">
            <a:avLst>
              <a:gd name="adj1" fmla="val 50000"/>
              <a:gd name="adj2" fmla="val 33092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hotosynthesis and respiration in the pla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20" name="Object 4"/>
          <p:cNvGraphicFramePr/>
          <p:nvPr/>
        </p:nvGraphicFramePr>
        <p:xfrm>
          <a:off x="1371600" y="1752480"/>
          <a:ext cx="6172200" cy="492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6172200" cy="49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ranspir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enter the plant through the roots and exits through the stom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% of the water is used for photosynthesis and 90% to keep the plant cells turg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ater moving into the plant and up through the xylem also transports mineral nutri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vironmental factors (temperature, air movement, and humidity) can affect amounts of water transpired at any given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3" dur="1" fill="hold"/>
                                  <p:tgtEl>
                                    <p:spTgt spid="2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actors Influencing Plant Growt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ght - quantity, quality, and du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erature - metabolism, water viscosity, dormancy, flowering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er - humidity, climate/soil moisture, and qu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trients - 18 essential nutrients need to be relatively available to plants.  A few are from the atmosphere.  Most are found in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5" dur="1" fill="hold"/>
                                  <p:tgtEl>
                                    <p:spTgt spid="2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lant Functions: the Big Pictu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ture and store enough energy to survive and reproduce (earn a liv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compete neighb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 to a variety of environ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 to herbiv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 to changing environ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4" dur="1" fill="hold"/>
                                  <p:tgtEl>
                                    <p:spTgt spid="2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ssential Plant Nutri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695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cronutri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bon (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gen (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xygen (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trogen (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sphorus (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tassium (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gnesium (M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cium (C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ur 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14720" y="1371600"/>
            <a:ext cx="369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icronutri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on (F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ron (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inc (Z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pper (C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ganese (M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lybdenum (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lorine (C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ckel (N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balt (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500"/>
                            </p:stCondLst>
                            <p:childTnLst>
                              <p:par>
                                <p:cTn id="6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500"/>
                            </p:stCondLst>
                            <p:childTnLst>
                              <p:par>
                                <p:cTn id="6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000"/>
                            </p:stCondLst>
                            <p:childTnLst>
                              <p:par>
                                <p:cTn id="6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0"/>
                            </p:stCondLst>
                            <p:childTnLst>
                              <p:par>
                                <p:cTn id="6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500"/>
                            </p:stCondLst>
                            <p:childTnLst>
                              <p:par>
                                <p:cTn id="6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6000"/>
                            </p:stCondLst>
                            <p:childTnLst>
                              <p:par>
                                <p:cTn id="6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7500"/>
                            </p:stCondLst>
                            <p:childTnLst>
                              <p:par>
                                <p:cTn id="6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800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8500"/>
                            </p:stCondLst>
                            <p:childTnLst>
                              <p:par>
                                <p:cTn id="6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9000"/>
                            </p:stCondLst>
                            <p:childTnLst>
                              <p:par>
                                <p:cTn id="6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9500"/>
                            </p:stCondLst>
                            <p:childTnLst>
                              <p:par>
                                <p:cTn id="6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1" descr="planttre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cientific Nam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dom – Planta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ami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en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ec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bspecies, Variety, or Cultiv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flytrap"/>
          <p:cNvPicPr/>
          <p:nvPr/>
        </p:nvPicPr>
        <p:blipFill>
          <a:blip r:embed="rId1"/>
          <a:stretch/>
        </p:blipFill>
        <p:spPr>
          <a:xfrm>
            <a:off x="5943600" y="1447920"/>
            <a:ext cx="2313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lant Diagra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1" name="Object 6"/>
          <p:cNvGraphicFramePr/>
          <p:nvPr/>
        </p:nvGraphicFramePr>
        <p:xfrm>
          <a:off x="3124080" y="1525680"/>
          <a:ext cx="5867640" cy="51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525680"/>
                    <a:ext cx="586764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" dur="1" fill="hold"/>
                                  <p:tgtEl>
                                    <p:spTgt spid="1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915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vement of Water and Materia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ylem conducts water and mineral nutrients upward to lea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loem conducts sugars, proteins, etc. downward from lea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Group 16"/>
          <p:cNvGrpSpPr/>
          <p:nvPr/>
        </p:nvGrpSpPr>
        <p:grpSpPr>
          <a:xfrm>
            <a:off x="609480" y="1676520"/>
            <a:ext cx="3581280" cy="2590200"/>
            <a:chOff x="609480" y="1676520"/>
            <a:chExt cx="3581280" cy="2590200"/>
          </a:xfrm>
        </p:grpSpPr>
        <p:pic>
          <p:nvPicPr>
            <p:cNvPr id="136" name="Picture 7" descr="359i25"/>
            <p:cNvPicPr/>
            <p:nvPr/>
          </p:nvPicPr>
          <p:blipFill>
            <a:blip r:embed="rId1"/>
            <a:stretch/>
          </p:blipFill>
          <p:spPr>
            <a:xfrm>
              <a:off x="609480" y="1676520"/>
              <a:ext cx="3581280" cy="25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1"/>
            <p:cNvSpPr/>
            <p:nvPr/>
          </p:nvSpPr>
          <p:spPr>
            <a:xfrm>
              <a:off x="911880" y="1772280"/>
              <a:ext cx="141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Xylem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Line 12"/>
            <p:cNvSpPr/>
            <p:nvPr/>
          </p:nvSpPr>
          <p:spPr>
            <a:xfrm>
              <a:off x="1517040" y="2317320"/>
              <a:ext cx="403560" cy="763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1517040" y="2317320"/>
              <a:ext cx="605160" cy="217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Line 14"/>
            <p:cNvSpPr/>
            <p:nvPr/>
          </p:nvSpPr>
          <p:spPr>
            <a:xfrm>
              <a:off x="1517040" y="2317320"/>
              <a:ext cx="705960" cy="1090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41" name="Picture 20" descr="xylemphloem"/>
          <p:cNvPicPr/>
          <p:nvPr/>
        </p:nvPicPr>
        <p:blipFill>
          <a:blip r:embed="rId2"/>
          <a:srcRect l="0" t="0" r="51402" b="0"/>
          <a:stretch/>
        </p:blipFill>
        <p:spPr>
          <a:xfrm>
            <a:off x="5029200" y="1066680"/>
            <a:ext cx="3805200" cy="5410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xylemphloem"/>
          <p:cNvPicPr/>
          <p:nvPr/>
        </p:nvPicPr>
        <p:blipFill>
          <a:blip r:embed="rId3"/>
          <a:srcRect l="48605" t="0" r="0" b="0"/>
          <a:stretch/>
        </p:blipFill>
        <p:spPr>
          <a:xfrm>
            <a:off x="4876920" y="1066680"/>
            <a:ext cx="400824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oody Plant Structu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mbium is the thin layer of cells that form xylem to the inside and phloem to the outs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7" descr="barkcut"/>
          <p:cNvPicPr/>
          <p:nvPr/>
        </p:nvPicPr>
        <p:blipFill>
          <a:blip r:embed="rId1"/>
          <a:stretch/>
        </p:blipFill>
        <p:spPr>
          <a:xfrm>
            <a:off x="3809880" y="1447920"/>
            <a:ext cx="518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8" dur="1" fill="hold"/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oody Plant Growt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7" name="Picture 5" descr="annualrings"/>
          <p:cNvPicPr/>
          <p:nvPr/>
        </p:nvPicPr>
        <p:blipFill>
          <a:blip r:embed="rId1"/>
          <a:srcRect l="17780" t="11485" r="20000" b="18890"/>
          <a:stretch/>
        </p:blipFill>
        <p:spPr>
          <a:xfrm>
            <a:off x="1676520" y="1523880"/>
            <a:ext cx="61722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econdary Growth Anim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trc.ucdavis.edu/biosci10v/bis10v/media/ch18/secondary_growth_v2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05:02:28Z</dcterms:created>
  <dc:creator>Jeff Schalau</dc:creator>
  <dc:description/>
  <dc:language>en-US</dc:language>
  <cp:lastModifiedBy>Jeff Schalau</cp:lastModifiedBy>
  <dcterms:modified xsi:type="dcterms:W3CDTF">2009-02-04T16:10:57Z</dcterms:modified>
  <cp:revision>29</cp:revision>
  <dc:subject/>
  <dc:title>Basic Botany for Master Gardeners</dc:title>
</cp:coreProperties>
</file>